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5FAE-C6BE-4ECB-92A6-F212E2079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3D43-871A-44E6-99EF-FEEE10CE4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B765-0CFD-4FF2-AC1C-222398B5E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BFC3-1662-43B2-871C-EA5D0FA5A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7909-17E5-476C-8E9A-CAD4131E1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653C-497D-46ED-A940-09FAD090F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E442-F00C-4C5A-8175-3A9364CB7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D103-EFA6-433E-827F-818FBB57A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6824-BA58-47E5-9C5C-F8F908D28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7DB3-5BD5-470B-B60D-17AC9953F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2A3F-7CBF-48AF-8E1D-D180FEAED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C13B-8487-4DA7-9754-7F21F8A8F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6DC04E-D2BA-4182-B4D3-3B5803DF3DC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CheckBox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: Autor: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#Autor# / Last change #Date#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/ date of print: </a:t>
            </a:r>
            <a:fld id="{D88E60E3-A48A-43D1-B4D1-DBFE1EB4E8A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1" descr=""/>
          <p:cNvPicPr/>
          <p:nvPr/>
        </p:nvPicPr>
        <p:blipFill>
          <a:blip r:embed="rId9"/>
          <a:stretch/>
        </p:blipFill>
        <p:spPr>
          <a:xfrm>
            <a:off x="5614920" y="44280"/>
            <a:ext cx="417348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404444E-49F6-4184-B369-6695C2C156D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#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heckBox #ItemRev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utor: #Autor# Date: #Date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11F236A-BDE2-4F05-A232-80E1B9C56AB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Dataset #ItemRev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etails for CheckBox NX3 to Nx7.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940280" y="1827360"/>
            <a:ext cx="0" cy="387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7920" y="5970600"/>
            <a:ext cx="92660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1"/>
          <p:cNvSpPr/>
          <p:nvPr/>
        </p:nvSpPr>
        <p:spPr>
          <a:xfrm>
            <a:off x="290520" y="1108080"/>
            <a:ext cx="9462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r: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\\Server\Nxshare\JobManagerV2\90-DATA\Customer_WorkInst_TestSystem\12-Data\CheckBoxData\??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.Report: \\Server\Nxshare\JobManagerV2\90-DATA\Customer_WorkInst_TestSystem\12-Data\CheckBoxData\???\?? _NX75-NX3_Dif_Xml.t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scription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3652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4656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3-01-04T14:07:09Z</dcterms:modified>
  <cp:revision>239</cp:revision>
  <dc:subject/>
  <dc:title>PLMJobManagerV2 Docu Custome</dc:title>
</cp:coreProperties>
</file>